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154-E756-4284-8280-A91621BA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806-DA08-4F78-A661-D341B170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85A-B5F3-4A60-A611-8AC73017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A26-CBB6-4F8E-B6F9-E1B1B380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DD0-0713-4580-BE38-32809E9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A3B-FF5A-4558-8274-A29E234A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620-4C30-4FD9-AECF-B3AF4EC7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BD9-58D8-4E83-AD29-45C201C6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580-5453-43FD-911D-A8E6261D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B79-624F-42B4-90D6-2BC7A075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C58-E8FA-4855-8D84-79F35549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1B5-51F6-4D47-A0F6-FF5760B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2830-3FE7-477B-9C7C-BF4886897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268360" y="1844640"/>
            <a:ext cx="43200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伯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z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/>
          <p:cNvSpPr/>
          <p:nvPr/>
        </p:nvSpPr>
        <p:spPr>
          <a:xfrm rot="10800000">
            <a:off x="2268000" y="3645000"/>
            <a:ext cx="422280" cy="4204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16360" y="2565360"/>
            <a:ext cx="431640" cy="649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348000" y="2779560"/>
            <a:ext cx="1008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明牌 百泰黄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916360" y="3357720"/>
            <a:ext cx="86364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 周大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916360" y="3716280"/>
            <a:ext cx="86364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EGO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吉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059280" y="4149720"/>
            <a:ext cx="720720" cy="358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924360" y="3357720"/>
            <a:ext cx="43164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至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6372360" y="4292640"/>
            <a:ext cx="504720" cy="43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476360" y="333360"/>
            <a:ext cx="576360" cy="35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468360" y="549360"/>
            <a:ext cx="647640" cy="71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巴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1763640" y="5013360"/>
            <a:ext cx="36036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佛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品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生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124000" y="5013360"/>
            <a:ext cx="36036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468360" y="5157720"/>
            <a:ext cx="28728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1042920" y="6021360"/>
            <a:ext cx="50472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395280" y="6021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面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新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4356000" y="3573360"/>
            <a:ext cx="360360" cy="93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龙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3276720" y="4797360"/>
            <a:ext cx="36036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3635280" y="4797360"/>
            <a:ext cx="50508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雷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豪利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波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4140360" y="4797360"/>
            <a:ext cx="504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西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铁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纳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梅花 天雷 雷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6084720" y="4869000"/>
            <a:ext cx="28584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6588000" y="4869000"/>
            <a:ext cx="28584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贵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7380360" y="2637000"/>
            <a:ext cx="360360" cy="21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ss ki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BER.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菲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7740720" y="2924280"/>
            <a:ext cx="360360" cy="21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7740720" y="2637000"/>
            <a:ext cx="43164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7524720" y="260280"/>
            <a:ext cx="360360" cy="129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思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都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7885080" y="0"/>
            <a:ext cx="432000" cy="1557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其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乐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7956720" y="1557360"/>
            <a:ext cx="36036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7524720" y="1773360"/>
            <a:ext cx="360360" cy="287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6877080" y="2421000"/>
            <a:ext cx="360360" cy="165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6227640" y="3645000"/>
            <a:ext cx="648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5508720" y="3645000"/>
            <a:ext cx="71892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芙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9"/>
          <p:cNvSpPr/>
          <p:nvPr/>
        </p:nvSpPr>
        <p:spPr>
          <a:xfrm>
            <a:off x="5508720" y="4076640"/>
            <a:ext cx="718920" cy="432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0"/>
          <p:cNvSpPr/>
          <p:nvPr/>
        </p:nvSpPr>
        <p:spPr>
          <a:xfrm>
            <a:off x="6948360" y="260280"/>
            <a:ext cx="432000" cy="165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真美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2484360" y="5373720"/>
            <a:ext cx="50184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M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I 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772920" y="0"/>
            <a:ext cx="729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1116000" y="1268280"/>
            <a:ext cx="647640" cy="23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KNY 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 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3"/>
          <p:cNvSpPr/>
          <p:nvPr/>
        </p:nvSpPr>
        <p:spPr>
          <a:xfrm>
            <a:off x="1260360" y="3933720"/>
            <a:ext cx="432000" cy="1728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ZZ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-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4"/>
          <p:cNvSpPr/>
          <p:nvPr/>
        </p:nvSpPr>
        <p:spPr>
          <a:xfrm>
            <a:off x="1547640" y="5877000"/>
            <a:ext cx="863640" cy="431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L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2771640" y="6021360"/>
            <a:ext cx="1295640" cy="647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叶草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CO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6"/>
          <p:cNvSpPr/>
          <p:nvPr/>
        </p:nvSpPr>
        <p:spPr>
          <a:xfrm>
            <a:off x="4859280" y="6093000"/>
            <a:ext cx="2305080" cy="35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交官 吉普 沙驰 金利来 鳄鱼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8"/>
          <p:cNvSpPr/>
          <p:nvPr/>
        </p:nvSpPr>
        <p:spPr>
          <a:xfrm>
            <a:off x="5580000" y="4797360"/>
            <a:ext cx="287280" cy="93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新秀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皇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5219640" y="3573360"/>
            <a:ext cx="2872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7020000" y="5589720"/>
            <a:ext cx="1081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卡丹  梦特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7"/>
          <p:cNvSpPr/>
          <p:nvPr/>
        </p:nvSpPr>
        <p:spPr>
          <a:xfrm>
            <a:off x="5148360" y="4797360"/>
            <a:ext cx="287280" cy="93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1"/>
          <p:cNvSpPr/>
          <p:nvPr/>
        </p:nvSpPr>
        <p:spPr>
          <a:xfrm>
            <a:off x="2050920" y="44280"/>
            <a:ext cx="649440" cy="648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M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2"/>
          <p:cNvSpPr/>
          <p:nvPr/>
        </p:nvSpPr>
        <p:spPr>
          <a:xfrm>
            <a:off x="2916360" y="692280"/>
            <a:ext cx="431640" cy="1873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2700360" y="44280"/>
            <a:ext cx="649440" cy="648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971640" y="2133720"/>
            <a:ext cx="129672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芙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1052640"/>
            <a:ext cx="936360" cy="504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971640" y="1557360"/>
            <a:ext cx="1296720" cy="576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059280" y="1125360"/>
            <a:ext cx="504720" cy="194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瑰子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cod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3059280" y="3068640"/>
            <a:ext cx="158400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 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 rot="5400000">
            <a:off x="2951640" y="4112640"/>
            <a:ext cx="647640" cy="43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2411280" y="1484280"/>
            <a:ext cx="50508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嘴猴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蒂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411280" y="2924280"/>
            <a:ext cx="50508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547640" y="2997360"/>
            <a:ext cx="720720" cy="165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1763640" y="5013360"/>
            <a:ext cx="939960" cy="86364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971640" y="4653000"/>
            <a:ext cx="129672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 rot="2598600">
            <a:off x="2484000" y="5300280"/>
            <a:ext cx="5050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1763640" y="5877000"/>
            <a:ext cx="863640" cy="98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2627280" y="5805360"/>
            <a:ext cx="432000" cy="50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2195640" y="115920"/>
            <a:ext cx="1728720" cy="100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必胜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6443640" y="333360"/>
            <a:ext cx="136836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城市心情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1042920" y="6381720"/>
            <a:ext cx="360360" cy="331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顾客服务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2411280" y="3500280"/>
            <a:ext cx="5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6732720" y="5373720"/>
            <a:ext cx="576000" cy="331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具护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4643280" y="4221000"/>
            <a:ext cx="50508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7380360" y="2276640"/>
            <a:ext cx="504720" cy="3457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ND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汤尼俊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速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莱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Dav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6300720" y="2492280"/>
            <a:ext cx="43200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6443640" y="1268280"/>
            <a:ext cx="936720" cy="100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北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i’s  cr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5003640" y="4869000"/>
            <a:ext cx="86364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KE  36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 ho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5292720" y="3789360"/>
            <a:ext cx="100800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6300720" y="2781360"/>
            <a:ext cx="432000" cy="143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5435640" y="5805360"/>
            <a:ext cx="43164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鬼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3059280" y="5805360"/>
            <a:ext cx="433080" cy="10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3492360" y="5805360"/>
            <a:ext cx="360360" cy="10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’zz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4284720" y="5805360"/>
            <a:ext cx="647640" cy="10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安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3851280" y="5805360"/>
            <a:ext cx="433440" cy="50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d n b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3708360" y="5229360"/>
            <a:ext cx="1295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可 大嘴猴 季候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3708360" y="4869000"/>
            <a:ext cx="129528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江南布衣 达衣岩 谜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9"/>
          <p:cNvSpPr/>
          <p:nvPr/>
        </p:nvSpPr>
        <p:spPr>
          <a:xfrm>
            <a:off x="4932360" y="5805360"/>
            <a:ext cx="5032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5867280" y="5805360"/>
            <a:ext cx="43200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6300720" y="5805360"/>
            <a:ext cx="43200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6877080" y="3068640"/>
            <a:ext cx="431640" cy="86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3"/>
          <p:cNvSpPr/>
          <p:nvPr/>
        </p:nvSpPr>
        <p:spPr>
          <a:xfrm>
            <a:off x="3492360" y="4005360"/>
            <a:ext cx="43200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X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4"/>
          <p:cNvSpPr/>
          <p:nvPr/>
        </p:nvSpPr>
        <p:spPr>
          <a:xfrm>
            <a:off x="3924360" y="4005360"/>
            <a:ext cx="3585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4284720" y="4005360"/>
            <a:ext cx="3585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2050920" y="189000"/>
            <a:ext cx="172908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尚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042920" y="1125360"/>
            <a:ext cx="1368360" cy="3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4360" y="1484280"/>
            <a:ext cx="1368360" cy="1513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Z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亚伦 赛瑞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云裳服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依尼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826920" y="2997360"/>
            <a:ext cx="1225800" cy="287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258920" y="3284640"/>
            <a:ext cx="792000" cy="309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莱蒂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音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VY/K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娜尔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斯比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 rot="2240400">
            <a:off x="2842920" y="4285800"/>
            <a:ext cx="576360" cy="374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2916360" y="1125360"/>
            <a:ext cx="503280" cy="30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邓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菲蒂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美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NIE.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尚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点服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o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348000" y="4221000"/>
            <a:ext cx="71928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D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4284720" y="4005360"/>
            <a:ext cx="28728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4572000" y="4653000"/>
            <a:ext cx="1008000" cy="28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邦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5580000" y="3933720"/>
            <a:ext cx="28728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末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5867280" y="3933720"/>
            <a:ext cx="115272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zz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凡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940360" y="4508640"/>
            <a:ext cx="432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6443640" y="4508640"/>
            <a:ext cx="36036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乔万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3708360" y="5084640"/>
            <a:ext cx="230364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意   永恒颜色 雪歌 雪儿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轩尼  陈氏仙境 易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O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沐蕾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2050920" y="5877000"/>
            <a:ext cx="216072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布 敦奴 基格 沐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500720" y="5877000"/>
            <a:ext cx="129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娇鼎 拉芙妮 海兰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5796000" y="5877000"/>
            <a:ext cx="1008000" cy="9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可儿 珂蕾朵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7093080" y="5516640"/>
            <a:ext cx="11509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唯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7740720" y="3645000"/>
            <a:ext cx="504720" cy="187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NT 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应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蒂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7164360" y="4221000"/>
            <a:ext cx="4320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7164360" y="3429000"/>
            <a:ext cx="43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丽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珍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6588000" y="2781360"/>
            <a:ext cx="43200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7812000" y="2708280"/>
            <a:ext cx="287280" cy="6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漫都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8172360" y="2421000"/>
            <a:ext cx="287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圣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澳羊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6012000" y="1844640"/>
            <a:ext cx="1512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莉芳 爱美丽 爱美菲露 黛安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维斯  曼妮芬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P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6732720" y="1413000"/>
            <a:ext cx="79200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慕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B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6227640" y="907920"/>
            <a:ext cx="50508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夏娃的诱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古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诗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秋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3276720" y="6308640"/>
            <a:ext cx="93492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黎婚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6732720" y="404640"/>
            <a:ext cx="129528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绿茵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2124000" y="1916280"/>
            <a:ext cx="21600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2556000" y="1916280"/>
            <a:ext cx="21564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2268360" y="3284640"/>
            <a:ext cx="43200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2268360" y="3860640"/>
            <a:ext cx="43200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莲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979640" y="0"/>
            <a:ext cx="1800360" cy="12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五木     鄂尔多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116000" y="907920"/>
            <a:ext cx="863640" cy="331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五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042920" y="1268280"/>
            <a:ext cx="576360" cy="2089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狄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庄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捷利尼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路易诗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916360" y="1268280"/>
            <a:ext cx="50472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戈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古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铁狮丹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916360" y="3068640"/>
            <a:ext cx="64764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雷菲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564000" y="3068640"/>
            <a:ext cx="3603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服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裁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403280" y="3357720"/>
            <a:ext cx="289080" cy="93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拉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2411280" y="3429000"/>
            <a:ext cx="4320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诺费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059280" y="3716280"/>
            <a:ext cx="86508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绅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慕先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1042920" y="4437000"/>
            <a:ext cx="649440" cy="129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柏朗亚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兰诗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348000" y="4437000"/>
            <a:ext cx="576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&amp;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3995640" y="5300640"/>
            <a:ext cx="2160720" cy="506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 汤尼威尔 约翰佩雷斯 袋鼠 弗伦杰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尔丹顿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LF    D&amp;5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勃朗    泰立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2556000" y="5516640"/>
            <a:ext cx="360360" cy="36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新派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1619280" y="6021360"/>
            <a:ext cx="100800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可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627280" y="6021360"/>
            <a:ext cx="50472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斯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3995640" y="6021360"/>
            <a:ext cx="50508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5364000" y="6021360"/>
            <a:ext cx="36036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7380360" y="5445000"/>
            <a:ext cx="86364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7812000" y="2133720"/>
            <a:ext cx="576360" cy="3311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津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P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7"/>
          <p:cNvSpPr/>
          <p:nvPr/>
        </p:nvSpPr>
        <p:spPr>
          <a:xfrm rot="5400000">
            <a:off x="6289200" y="4376520"/>
            <a:ext cx="576000" cy="55404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6227640" y="0"/>
            <a:ext cx="2305080" cy="90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9"/>
          <p:cNvSpPr/>
          <p:nvPr/>
        </p:nvSpPr>
        <p:spPr>
          <a:xfrm>
            <a:off x="7236000" y="1413000"/>
            <a:ext cx="4316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器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7236000" y="2997360"/>
            <a:ext cx="43164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尤尼克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6227640" y="907920"/>
            <a:ext cx="792360" cy="122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凯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6659640" y="2565360"/>
            <a:ext cx="36036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探路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5724360" y="3789360"/>
            <a:ext cx="129564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诗兰  哥伦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4"/>
          <p:cNvSpPr/>
          <p:nvPr/>
        </p:nvSpPr>
        <p:spPr>
          <a:xfrm>
            <a:off x="5724360" y="4221000"/>
            <a:ext cx="43200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3924360" y="4724280"/>
            <a:ext cx="1800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 CAMEL JEEP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路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3132000" y="6021360"/>
            <a:ext cx="86364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丹顿 古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00720" y="6021360"/>
            <a:ext cx="8632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尔皮纳 百先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/>
          <p:cNvSpPr/>
          <p:nvPr/>
        </p:nvSpPr>
        <p:spPr>
          <a:xfrm>
            <a:off x="5724360" y="6021360"/>
            <a:ext cx="36036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俊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6084720" y="6021360"/>
            <a:ext cx="93528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报喜鸟  乔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2413080" y="189000"/>
            <a:ext cx="431640" cy="431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844720" y="189000"/>
            <a:ext cx="647640" cy="287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孩子一站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763640" y="189000"/>
            <a:ext cx="647640" cy="431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332000" y="189000"/>
            <a:ext cx="431640" cy="287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044720" y="549360"/>
            <a:ext cx="50292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皇家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拉贝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婴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1692360" y="692280"/>
            <a:ext cx="50472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洪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仙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反斗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罗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 rot="16200000">
            <a:off x="648360" y="3177360"/>
            <a:ext cx="1943280" cy="28728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71640" y="4292640"/>
            <a:ext cx="50472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.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木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5400000">
            <a:off x="862920" y="4545000"/>
            <a:ext cx="2089080" cy="43164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孩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卓维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836720" y="2492280"/>
            <a:ext cx="35892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乃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idas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柏姿多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828720" y="5950080"/>
            <a:ext cx="50472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3997440" y="5734080"/>
            <a:ext cx="28872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1405080" y="5734080"/>
            <a:ext cx="259236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 小虎尼可 芝麻开门  玛吉卡 艾艾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利波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 in paw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奈儿 常春藤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O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1620720" y="6381720"/>
            <a:ext cx="863640" cy="358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2916360" y="6381720"/>
            <a:ext cx="8636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2413080" y="765000"/>
            <a:ext cx="43164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玩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2989440" y="620640"/>
            <a:ext cx="43164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富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鸿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埃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蒙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3421080" y="1989000"/>
            <a:ext cx="287280" cy="7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2989440" y="2852640"/>
            <a:ext cx="574560" cy="28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2340000" y="2852640"/>
            <a:ext cx="50472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湖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晶盐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2989440" y="3213000"/>
            <a:ext cx="287280" cy="28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348000" y="3213000"/>
            <a:ext cx="287280" cy="28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温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3708360" y="2492280"/>
            <a:ext cx="360360" cy="9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8"/>
          <p:cNvSpPr/>
          <p:nvPr/>
        </p:nvSpPr>
        <p:spPr>
          <a:xfrm>
            <a:off x="3852720" y="3429000"/>
            <a:ext cx="360360" cy="14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馨而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厨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2989440" y="357336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伟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泽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3348000" y="3646440"/>
            <a:ext cx="360360" cy="7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玻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百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4213080" y="4365720"/>
            <a:ext cx="11509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办公用品 保险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5364000" y="3933720"/>
            <a:ext cx="360360" cy="93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5797440" y="4076640"/>
            <a:ext cx="36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4"/>
          <p:cNvSpPr/>
          <p:nvPr/>
        </p:nvSpPr>
        <p:spPr>
          <a:xfrm>
            <a:off x="3780000" y="5084640"/>
            <a:ext cx="50472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孩视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韩国家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邦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4500720" y="5013360"/>
            <a:ext cx="107928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草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6805440" y="2924280"/>
            <a:ext cx="36036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按摩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的 虎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洋 九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 松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4284720" y="5734080"/>
            <a:ext cx="21600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8"/>
          <p:cNvSpPr/>
          <p:nvPr/>
        </p:nvSpPr>
        <p:spPr>
          <a:xfrm>
            <a:off x="6300720" y="2133720"/>
            <a:ext cx="289080" cy="13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夏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9"/>
          <p:cNvSpPr/>
          <p:nvPr/>
        </p:nvSpPr>
        <p:spPr>
          <a:xfrm>
            <a:off x="6229440" y="3500280"/>
            <a:ext cx="35856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0"/>
          <p:cNvSpPr/>
          <p:nvPr/>
        </p:nvSpPr>
        <p:spPr>
          <a:xfrm>
            <a:off x="5437080" y="3500280"/>
            <a:ext cx="7923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1"/>
          <p:cNvSpPr/>
          <p:nvPr/>
        </p:nvSpPr>
        <p:spPr>
          <a:xfrm>
            <a:off x="5724360" y="5661000"/>
            <a:ext cx="79236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板 厨热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2"/>
          <p:cNvSpPr/>
          <p:nvPr/>
        </p:nvSpPr>
        <p:spPr>
          <a:xfrm>
            <a:off x="6877080" y="5229360"/>
            <a:ext cx="576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门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3"/>
          <p:cNvSpPr/>
          <p:nvPr/>
        </p:nvSpPr>
        <p:spPr>
          <a:xfrm>
            <a:off x="7308720" y="4365720"/>
            <a:ext cx="432000" cy="790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天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4"/>
          <p:cNvSpPr/>
          <p:nvPr/>
        </p:nvSpPr>
        <p:spPr>
          <a:xfrm>
            <a:off x="7308720" y="1700280"/>
            <a:ext cx="432000" cy="2665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空调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5"/>
          <p:cNvSpPr/>
          <p:nvPr/>
        </p:nvSpPr>
        <p:spPr>
          <a:xfrm>
            <a:off x="6588000" y="1700280"/>
            <a:ext cx="64944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星 海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6"/>
          <p:cNvSpPr/>
          <p:nvPr/>
        </p:nvSpPr>
        <p:spPr>
          <a:xfrm>
            <a:off x="4500720" y="5734080"/>
            <a:ext cx="1079280" cy="1123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篮球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826920" y="0"/>
            <a:ext cx="2016360" cy="765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汉城烧烤        纳赫造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843280" y="0"/>
            <a:ext cx="433440" cy="1844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468360" y="765000"/>
            <a:ext cx="1439640" cy="2087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东北人烧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116000" y="2852640"/>
            <a:ext cx="792000" cy="647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贝拉意式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971640" y="4005360"/>
            <a:ext cx="1008000" cy="431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金丸子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611280" y="4437000"/>
            <a:ext cx="1368360" cy="1079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铺子私房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味你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1476360" y="5516640"/>
            <a:ext cx="1008000" cy="12254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的美小吃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2268360" y="2781360"/>
            <a:ext cx="43344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汉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穿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5364000" y="4941720"/>
            <a:ext cx="79236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街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咕噜咕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5724360" y="3573360"/>
            <a:ext cx="50328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便利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7020000" y="1413000"/>
            <a:ext cx="1655640" cy="23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斯卡影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6227640" y="3573360"/>
            <a:ext cx="79236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6516720" y="189000"/>
            <a:ext cx="1800360" cy="12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8028000" y="3645000"/>
            <a:ext cx="433440" cy="143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7812000" y="5084640"/>
            <a:ext cx="503280" cy="1008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铺子味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影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7093080" y="5661000"/>
            <a:ext cx="50328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芙贝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泡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2"/>
          <p:cNvSpPr/>
          <p:nvPr/>
        </p:nvSpPr>
        <p:spPr>
          <a:xfrm>
            <a:off x="5292720" y="6021360"/>
            <a:ext cx="1584360" cy="836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台北牛排  碧海云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3"/>
          <p:cNvSpPr/>
          <p:nvPr/>
        </p:nvSpPr>
        <p:spPr>
          <a:xfrm>
            <a:off x="4643280" y="6021360"/>
            <a:ext cx="64944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果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419640" y="6021360"/>
            <a:ext cx="865080" cy="836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咪咕咪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麻辣香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2843280" y="6021360"/>
            <a:ext cx="577800" cy="836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6"/>
          <p:cNvSpPr/>
          <p:nvPr/>
        </p:nvSpPr>
        <p:spPr>
          <a:xfrm>
            <a:off x="2843280" y="2421000"/>
            <a:ext cx="1441440" cy="21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冰点地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滑冰俱乐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2843280" y="1844640"/>
            <a:ext cx="360360" cy="57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4284720" y="4149720"/>
            <a:ext cx="358560" cy="431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2484360" y="6021360"/>
            <a:ext cx="360360" cy="836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4572000" y="4941720"/>
            <a:ext cx="79200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记忆时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悄悄话手工巧克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逸家酸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1:08:13Z</dcterms:created>
  <dc:creator>微软用户</dc:creator>
  <dc:description/>
  <dc:language>en-US</dc:language>
  <cp:lastModifiedBy>微软用户</cp:lastModifiedBy>
  <dcterms:modified xsi:type="dcterms:W3CDTF">2013-03-22T07:00:39Z</dcterms:modified>
  <cp:revision>54</cp:revision>
  <dc:subject/>
  <dc:title>幻灯片 1</dc:title>
</cp:coreProperties>
</file>