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8E8-3C0F-41FC-B6CB-667C81D2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66EB-B474-4247-BD25-E49DBE19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A88C-D6B8-40A0-8654-8E1D8FC0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41E1-6954-44AD-972A-5794F75E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40B5-71D1-40A7-89D2-3D52D30F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8FF2-3A01-4534-827D-0264D814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D6FF-FD9D-41D8-9D85-0D66433D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4BEE-833F-46B7-B72C-8623BB82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C946-DE7D-49AD-8B92-D578DD88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6D3F-E42E-4C30-A4DB-4FF39B3B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F09B-9341-4E78-BB6C-B2BD662C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CE3-74D9-4F62-B114-BF53F59F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74F6-E931-4872-B699-9A4611C4F7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97080" y="1268280"/>
            <a:ext cx="215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斯莱德     杰克琼斯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HO AU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00720" y="1268280"/>
            <a:ext cx="1800000" cy="64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曼娅奴    淑女屋     阿桑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84720" y="1916280"/>
            <a:ext cx="505080" cy="100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家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84720" y="2924280"/>
            <a:ext cx="936720" cy="57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d 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48360" y="4797360"/>
            <a:ext cx="57636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9889400">
            <a:off x="2700000" y="4292280"/>
            <a:ext cx="360360" cy="100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2052360" y="3139560"/>
            <a:ext cx="863640" cy="79236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’est la 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7080" y="2852640"/>
            <a:ext cx="6494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日出茶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97080" y="2421000"/>
            <a:ext cx="64944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563920"/>
            <a:ext cx="28908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奥洛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37080" y="2563920"/>
            <a:ext cx="28908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自然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3716280"/>
            <a:ext cx="50292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3716280"/>
            <a:ext cx="50472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嘉媚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3139920"/>
            <a:ext cx="64764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PEN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08360" y="3139920"/>
            <a:ext cx="57636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571920"/>
            <a:ext cx="64764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3571920"/>
            <a:ext cx="57636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VI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60720" y="2563920"/>
            <a:ext cx="64764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CE CLA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2563920"/>
            <a:ext cx="64764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G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2130480"/>
            <a:ext cx="64764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季候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97080" y="1916280"/>
            <a:ext cx="50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&amp;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69080" y="4437000"/>
            <a:ext cx="36036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686200">
            <a:off x="7254360" y="2642760"/>
            <a:ext cx="1338480" cy="1441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优衣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60720" y="2130480"/>
            <a:ext cx="64764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UV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4724280"/>
            <a:ext cx="3528720" cy="577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GXG TRENDIANO  VERO MODA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燕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5+ 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700280"/>
            <a:ext cx="1655640" cy="1224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屈臣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3658400">
            <a:off x="126000" y="3437280"/>
            <a:ext cx="3140280" cy="992160"/>
          </a:xfrm>
          <a:custGeom>
            <a:avLst/>
            <a:gdLst>
              <a:gd name="textAreaLeft" fmla="*/ 690480 w 3140280"/>
              <a:gd name="textAreaRight" fmla="*/ 2449800 w 3140280"/>
              <a:gd name="textAreaTop" fmla="*/ 218160 h 992160"/>
              <a:gd name="textAreaBottom" fmla="*/ 77400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生活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390000">
            <a:off x="2482920" y="4498560"/>
            <a:ext cx="581040" cy="8733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眼镜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60320" y="2924280"/>
            <a:ext cx="454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8320" y="285264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61080" y="2852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227664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观光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2563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62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负二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16080" y="2635200"/>
            <a:ext cx="100800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玛尼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GITI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16080" y="3139920"/>
            <a:ext cx="1008000" cy="2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KM  LACO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59000" y="3859200"/>
            <a:ext cx="1008000" cy="21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WATCH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西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40080" y="2274840"/>
            <a:ext cx="57636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Rap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0080" y="3139920"/>
            <a:ext cx="576360" cy="792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’clo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14640" y="3139920"/>
            <a:ext cx="649440" cy="792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米尔康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4219560"/>
            <a:ext cx="79056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rth  mus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c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14640" y="4219560"/>
            <a:ext cx="64944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3076800">
            <a:off x="1825560" y="4744800"/>
            <a:ext cx="154764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ZZ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67000" y="5084640"/>
            <a:ext cx="1295640" cy="790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无印良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51360" y="5300640"/>
            <a:ext cx="933480" cy="574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ISU  ENR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88080" y="5300640"/>
            <a:ext cx="792000" cy="574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 SIX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19720" y="3932280"/>
            <a:ext cx="57636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K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19720" y="3355920"/>
            <a:ext cx="57636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-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19720" y="3067200"/>
            <a:ext cx="576360" cy="288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内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51360" y="2492280"/>
            <a:ext cx="180180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UTICA    HAZZ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7360" y="1916280"/>
            <a:ext cx="1152360" cy="57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叶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35360" y="1771560"/>
            <a:ext cx="50508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32080" y="692280"/>
            <a:ext cx="1655640" cy="122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蜂星电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87720" y="1339920"/>
            <a:ext cx="64764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389200">
            <a:off x="539280" y="2034720"/>
            <a:ext cx="2519640" cy="27352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麦当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67360" y="4363920"/>
            <a:ext cx="1297080" cy="1511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优衣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67360" y="3787920"/>
            <a:ext cx="1729080" cy="576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14640" y="2274840"/>
            <a:ext cx="50508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枠 眼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0960" y="364320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47680" y="364320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67360" y="30672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观光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87720" y="34275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0440" y="36432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62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负一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03640" y="2276640"/>
            <a:ext cx="431640" cy="28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翠芝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3640" y="2637000"/>
            <a:ext cx="43164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罗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2987640" y="3213000"/>
            <a:ext cx="86328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六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815640" y="3464280"/>
            <a:ext cx="36036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潮宏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3816360" y="3033360"/>
            <a:ext cx="35892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周大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3851280" y="2205000"/>
            <a:ext cx="28872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伯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3852000" y="2564640"/>
            <a:ext cx="28728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老凤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3933720"/>
            <a:ext cx="432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秀丽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伊娜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3933720"/>
            <a:ext cx="432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 RGH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56000" y="3933720"/>
            <a:ext cx="432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莱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彩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4437000"/>
            <a:ext cx="432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-H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4437000"/>
            <a:ext cx="432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佳丽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茱莉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4437000"/>
            <a:ext cx="432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娇韵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4941720"/>
            <a:ext cx="432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雪花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4941720"/>
            <a:ext cx="432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is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56000" y="4941720"/>
            <a:ext cx="432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倩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8360" y="4437000"/>
            <a:ext cx="3589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59640" y="1773360"/>
            <a:ext cx="720720" cy="8650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眼镜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27280" y="4797360"/>
            <a:ext cx="36036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C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4076640"/>
            <a:ext cx="129564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LEX ANDRE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毛戈平 美宝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3429000"/>
            <a:ext cx="100836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4724280"/>
            <a:ext cx="36036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35640" y="4724280"/>
            <a:ext cx="36036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96000" y="5229360"/>
            <a:ext cx="36036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诗兰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形象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27640" y="5229360"/>
            <a:ext cx="36036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香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59280" y="5229360"/>
            <a:ext cx="36036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VLG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CJAC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4437000"/>
            <a:ext cx="43164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OTH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16720" y="4437000"/>
            <a:ext cx="43164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IFE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20000" y="4437000"/>
            <a:ext cx="43164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P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4720" y="4437000"/>
            <a:ext cx="432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高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3789360"/>
            <a:ext cx="43164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-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16720" y="3789360"/>
            <a:ext cx="43164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莱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20000" y="3789360"/>
            <a:ext cx="43164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玉兰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24720" y="3789360"/>
            <a:ext cx="43200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羽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3141720"/>
            <a:ext cx="43164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56360" y="3141720"/>
            <a:ext cx="43164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宝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3141720"/>
            <a:ext cx="43164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佰草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2637000"/>
            <a:ext cx="2160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菲诗小铺  欧舒丹 施丹兰 伊夫黎雪 薇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3169800">
            <a:off x="7005960" y="3556440"/>
            <a:ext cx="2241360" cy="287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帝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雷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8694800">
            <a:off x="7904880" y="4733280"/>
            <a:ext cx="8985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浪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77080" y="5300640"/>
            <a:ext cx="1295280" cy="10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齐莱 艾米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ORIS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汉米尔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马 梅花 雪铁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摩凡陀 雷蒙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飞亚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27640" y="5661000"/>
            <a:ext cx="648000" cy="719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KIEH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RABEAN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80000" y="5516640"/>
            <a:ext cx="720720" cy="288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林菲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360" y="5516640"/>
            <a:ext cx="28764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悦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之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43280" y="5516640"/>
            <a:ext cx="64764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度英纳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西尼 依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拜戈天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854200">
            <a:off x="1592640" y="5112360"/>
            <a:ext cx="134964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AROV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C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2205000"/>
            <a:ext cx="576000" cy="1511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周大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2708280"/>
            <a:ext cx="115272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美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N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2304000" y="2095920"/>
            <a:ext cx="719280" cy="505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谢瑞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79640" y="1554120"/>
            <a:ext cx="431640" cy="434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翠生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2267640" y="980280"/>
            <a:ext cx="71928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竹露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戴梦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404640"/>
            <a:ext cx="936720" cy="433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老庙  老凤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3169800">
            <a:off x="3632040" y="866520"/>
            <a:ext cx="792000" cy="341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鹰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通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4720" y="1125360"/>
            <a:ext cx="1150920" cy="129564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周生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2421000"/>
            <a:ext cx="57456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浮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若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91960" y="386064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84320" y="386064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48360" y="38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328464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观光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62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一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916360" y="1268280"/>
            <a:ext cx="115092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IDO DIDO   oil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1557360"/>
            <a:ext cx="11509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Gate.J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16360" y="1844640"/>
            <a:ext cx="11509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SONA   F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2278080"/>
            <a:ext cx="1150920" cy="430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Lrazziu ka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16360" y="2638440"/>
            <a:ext cx="1150920" cy="358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UNLOP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凯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2997360"/>
            <a:ext cx="11509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COV  GALA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3640" y="3573360"/>
            <a:ext cx="64908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碧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51280" y="3573360"/>
            <a:ext cx="504720" cy="93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n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4149720"/>
            <a:ext cx="64764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UKAP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51280" y="4508640"/>
            <a:ext cx="503280" cy="865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4292640"/>
            <a:ext cx="7207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瑞贝卡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he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4724280"/>
            <a:ext cx="28728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4941720"/>
            <a:ext cx="287640" cy="28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3933720"/>
            <a:ext cx="28872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rosh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79640" y="3573360"/>
            <a:ext cx="100800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Greata.Jo CO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2637000"/>
            <a:ext cx="505080" cy="100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大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甜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32000" y="2995560"/>
            <a:ext cx="1511280" cy="289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ARO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2421000"/>
            <a:ext cx="358920" cy="57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1801800" y="1228680"/>
            <a:ext cx="930240" cy="100944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C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40000" y="620640"/>
            <a:ext cx="151128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ONG  PRA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2818800">
            <a:off x="3841200" y="1008000"/>
            <a:ext cx="692280" cy="3207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11640" y="1484280"/>
            <a:ext cx="43164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11640" y="2421000"/>
            <a:ext cx="64764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UC Z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32360" y="2781360"/>
            <a:ext cx="72072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音儿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51640" y="2781360"/>
            <a:ext cx="108108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3093000">
            <a:off x="6660720" y="3500640"/>
            <a:ext cx="2016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蝶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妙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千百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8694800">
            <a:off x="7990560" y="4694760"/>
            <a:ext cx="112392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真美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思加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77080" y="5661000"/>
            <a:ext cx="1008000" cy="86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嘉宝 汤普 莱尔斯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8664200">
            <a:off x="7668360" y="5469480"/>
            <a:ext cx="717480" cy="36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12000" y="5661000"/>
            <a:ext cx="8650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玖熙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5373720"/>
            <a:ext cx="57456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迪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67280" y="5661000"/>
            <a:ext cx="100944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利亚里 珂莱蒂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尔尼尼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oxa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卓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2879400">
            <a:off x="972360" y="4710600"/>
            <a:ext cx="1728720" cy="529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黄惠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40360" y="4797360"/>
            <a:ext cx="719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森达 莱斯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40360" y="5157720"/>
            <a:ext cx="719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她他 接吻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04000" y="4797360"/>
            <a:ext cx="719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OUBER.G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哈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04000" y="5157720"/>
            <a:ext cx="719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星期六 康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40360" y="4005360"/>
            <a:ext cx="719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伴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U-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40360" y="4365720"/>
            <a:ext cx="719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富贵鸟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AFF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05360"/>
            <a:ext cx="719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思图  索菲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04000" y="4365720"/>
            <a:ext cx="719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曼仙妮 安玛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24360" y="3213000"/>
            <a:ext cx="719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芙斯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REBA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24360" y="3573360"/>
            <a:ext cx="719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NE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奥卡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88000" y="3213000"/>
            <a:ext cx="608040" cy="68112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美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32000" y="3500280"/>
            <a:ext cx="28872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kalei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3640" y="4797360"/>
            <a:ext cx="64764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诺信 莹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04680" y="414972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12680" y="414972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8000" y="350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观光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11280" y="393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62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二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981000"/>
            <a:ext cx="2232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替莫     蕾朵     尚约     敦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24360" y="1557360"/>
            <a:ext cx="431640" cy="719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珂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24000" y="1413000"/>
            <a:ext cx="43200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s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7280" y="1628640"/>
            <a:ext cx="503280" cy="936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汶 名典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宗洋  雪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03280" y="2205000"/>
            <a:ext cx="115272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非尚     红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2060640"/>
            <a:ext cx="57636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斯尔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1628640"/>
            <a:ext cx="86364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施华布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2708280"/>
            <a:ext cx="649440" cy="649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E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诺玛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1628640"/>
            <a:ext cx="503280" cy="936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ON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诗凡诗 凯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海兰丝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63640" y="2997360"/>
            <a:ext cx="86364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KLA  BAZZ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ss  ON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44720" y="2924280"/>
            <a:ext cx="64764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江南布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摩安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92360" y="2924280"/>
            <a:ext cx="71928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时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ZO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44720" y="3932280"/>
            <a:ext cx="64764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凡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92360" y="3932280"/>
            <a:ext cx="71928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华欧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0800000">
            <a:off x="1907640" y="3860640"/>
            <a:ext cx="721080" cy="6480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希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2647200">
            <a:off x="1115640" y="4292280"/>
            <a:ext cx="1889280" cy="4460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娜尔思   艾维    马天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16360" y="4724280"/>
            <a:ext cx="136836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玫而美    依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84720" y="4724280"/>
            <a:ext cx="647640" cy="649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音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48360" y="4724280"/>
            <a:ext cx="792000" cy="649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唯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61080" y="4724280"/>
            <a:ext cx="358920" cy="720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93080" y="4724280"/>
            <a:ext cx="21564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308720" y="4724280"/>
            <a:ext cx="43200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珂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蒂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8796800">
            <a:off x="7514640" y="4231080"/>
            <a:ext cx="81108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杰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V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2836800">
            <a:off x="7833960" y="3405240"/>
            <a:ext cx="784440" cy="577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诗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歌力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2836800">
            <a:off x="6503760" y="2712960"/>
            <a:ext cx="14461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读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维格娜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00720" y="2060640"/>
            <a:ext cx="223200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NC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索     安娜苏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24360" y="3932280"/>
            <a:ext cx="1729080" cy="64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铂领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nna Lice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菲格莱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TYLE WOMAN  RL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蒂尔德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40360" y="3214800"/>
            <a:ext cx="1295640" cy="574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NAUTICA  OMNIALUO  ide 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巧帛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JACO FIVE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普蕾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2492280"/>
            <a:ext cx="936720" cy="505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丝蒂雅文  木真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永恒颜色  圣轩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80000" y="3213000"/>
            <a:ext cx="21600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AN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4724280"/>
            <a:ext cx="792360" cy="2890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0800000">
            <a:off x="395280" y="3500280"/>
            <a:ext cx="720720" cy="6480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玖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52320" y="3141720"/>
            <a:ext cx="454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5600" y="321300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32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2781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观光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9640" y="62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三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012000" y="3573360"/>
            <a:ext cx="6476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佳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LE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3572600">
            <a:off x="6229080" y="3355560"/>
            <a:ext cx="2444760" cy="2448000"/>
          </a:xfrm>
          <a:prstGeom prst="rtTriangl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48360" y="2997360"/>
            <a:ext cx="57636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尼康  索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2997360"/>
            <a:ext cx="2160360" cy="2854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圣宝龙 法兰诗顿 埃沃定制 华伦天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84720" y="2492280"/>
            <a:ext cx="503280" cy="649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威可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82920" y="1484280"/>
            <a:ext cx="289080" cy="100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皮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丹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1052640"/>
            <a:ext cx="216072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皮尔卡丹 卡尔伦萨 曼哈顿  迪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24000" y="1557360"/>
            <a:ext cx="503280" cy="1079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堡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32000" y="2637000"/>
            <a:ext cx="129708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T  SCOFIE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9640" y="2997360"/>
            <a:ext cx="792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虎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71640" y="3573360"/>
            <a:ext cx="180036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’KAP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乐士 暇步士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32000" y="3284640"/>
            <a:ext cx="287280" cy="93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43280" y="4005360"/>
            <a:ext cx="1584360" cy="36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利来 宾度 皮尔卡丹 百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32000" y="4869000"/>
            <a:ext cx="1295640" cy="577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Marco Azzali 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鲨    卡奴迪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63640" y="3284640"/>
            <a:ext cx="936720" cy="57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萨劳伦 卡巴雷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潘尼丹伦  袋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63640" y="4076640"/>
            <a:ext cx="93672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苹果 日顺星沙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ROWN sams n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71640" y="1773360"/>
            <a:ext cx="1295640" cy="57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OLLNSI BAB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报喜鸟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MAU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71640" y="2492280"/>
            <a:ext cx="129564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戈尔 比华利保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澳伦多兰 吉诺里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6920" y="4653000"/>
            <a:ext cx="792360" cy="50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OSS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绅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2959200">
            <a:off x="1434600" y="5416200"/>
            <a:ext cx="1727280" cy="495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茜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R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迪波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4000" y="6021360"/>
            <a:ext cx="287280" cy="50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费朗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64000" y="5734080"/>
            <a:ext cx="10792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&amp;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43280" y="5734080"/>
            <a:ext cx="1584360" cy="79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克戴尔 沙驰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VSKO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27640" y="4292640"/>
            <a:ext cx="1224000" cy="22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装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659640" y="3573360"/>
            <a:ext cx="6476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派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00360" y="4869000"/>
            <a:ext cx="431640" cy="57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迈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43280" y="4365720"/>
            <a:ext cx="1584360" cy="358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利来 梦特娇 沙驰 皮尔卡丹 希伯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1640" y="3284640"/>
            <a:ext cx="180036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九牧王 铁狮丹顿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KYM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堡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5229360"/>
            <a:ext cx="43164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瑞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军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76720" y="5229360"/>
            <a:ext cx="576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zip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24360" y="5229360"/>
            <a:ext cx="360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47600" y="4292640"/>
            <a:ext cx="454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655600" y="4292640"/>
            <a:ext cx="454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76720" y="429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76720" y="37162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观光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9640" y="62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四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 rot="18796800">
            <a:off x="7187040" y="4537440"/>
            <a:ext cx="1940040" cy="43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步步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芭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英芬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斯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067280" y="2276640"/>
            <a:ext cx="433440" cy="865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32000" y="3213000"/>
            <a:ext cx="107928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32000" y="3500280"/>
            <a:ext cx="107928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he’s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户外  圣弗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484360" y="3213000"/>
            <a:ext cx="93528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女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19640" y="3213000"/>
            <a:ext cx="93492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84360" y="3500280"/>
            <a:ext cx="57492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狼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08360" y="3500280"/>
            <a:ext cx="64620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RRF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59280" y="3500280"/>
            <a:ext cx="64584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AD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84360" y="1700280"/>
            <a:ext cx="358920" cy="1368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43280" y="1700280"/>
            <a:ext cx="358560" cy="64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2349360"/>
            <a:ext cx="358560" cy="719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48000" y="1700280"/>
            <a:ext cx="577800" cy="1368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ONY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匡威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Mizu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00360" y="4941720"/>
            <a:ext cx="1582560" cy="28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雪莲  金丽杉  雪澜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4654440"/>
            <a:ext cx="158256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帝乐鳄鱼 澳羊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族 纬尔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0800000">
            <a:off x="2268360" y="4941360"/>
            <a:ext cx="432000" cy="28764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19640" y="3933720"/>
            <a:ext cx="8632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哥伦比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19640" y="4221000"/>
            <a:ext cx="863280" cy="28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探路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24000" y="3933720"/>
            <a:ext cx="1152720" cy="574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科诺修思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kailas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乐斯菲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CALER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奥索卡 诺诗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10800000">
            <a:off x="1331640" y="3933360"/>
            <a:ext cx="647640" cy="57492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德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羊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84360" y="5373720"/>
            <a:ext cx="1727280" cy="358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米皇 珍贝 日神 金棒 皮皮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2496600">
            <a:off x="1547280" y="5013000"/>
            <a:ext cx="115128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加尔 金利来 鄂尔多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26920" y="4508640"/>
            <a:ext cx="935280" cy="64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李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5280" y="3933720"/>
            <a:ext cx="576360" cy="863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03280" y="1916280"/>
            <a:ext cx="936720" cy="1153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三叶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1404000" y="980280"/>
            <a:ext cx="935280" cy="936720"/>
          </a:xfrm>
          <a:prstGeom prst="rtTriangl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067280" y="981000"/>
            <a:ext cx="934920" cy="936720"/>
          </a:xfrm>
          <a:prstGeom prst="rtTriangl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88000" y="2708280"/>
            <a:ext cx="36036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铅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俱乐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56360" y="3933720"/>
            <a:ext cx="719280" cy="57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QQduck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波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法纳贝尔 红黄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940360" y="3284640"/>
            <a:ext cx="936720" cy="57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儿斯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水孩儿   爱法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40360" y="4653000"/>
            <a:ext cx="719280" cy="57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IT’Z BH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llo lugh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马拉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20000" y="3284640"/>
            <a:ext cx="1081080" cy="1224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尔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J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比     孕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04000" y="4653000"/>
            <a:ext cx="57636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十月妈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可爱洛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2623800">
            <a:off x="6864120" y="3206880"/>
            <a:ext cx="1888920" cy="446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哈利波特 百变米奇 乖乖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020000" y="5373720"/>
            <a:ext cx="43344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好孩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84720" y="6093000"/>
            <a:ext cx="1224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耐克 李维斯  安奈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51640" y="5373720"/>
            <a:ext cx="43308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88000" y="5373720"/>
            <a:ext cx="86364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恋 阿迪 常春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431600" y="393372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12680" y="393372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03640" y="393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59280" y="33577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观光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0720" y="2708280"/>
            <a:ext cx="50472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维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03640" y="2708280"/>
            <a:ext cx="151308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猪班纳 海威尔 嗒嘀嗒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11640" y="5373720"/>
            <a:ext cx="57636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恒源祥 恩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4654440"/>
            <a:ext cx="43200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皮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40000" y="981000"/>
            <a:ext cx="1727280" cy="576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62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五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276720" y="4869000"/>
            <a:ext cx="93492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鹿   冰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波司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221000"/>
            <a:ext cx="9349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鸭鸭   雪中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康博   千仞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3716280"/>
            <a:ext cx="934920" cy="35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松下    博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76720" y="3357720"/>
            <a:ext cx="934920" cy="358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飞利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0800000">
            <a:off x="2556000" y="4076640"/>
            <a:ext cx="576000" cy="504720"/>
          </a:xfrm>
          <a:prstGeom prst="rtTriangl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东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天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92360" y="3357720"/>
            <a:ext cx="718920" cy="50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科沃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莱克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11280" y="3357720"/>
            <a:ext cx="648000" cy="50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08000" y="1773360"/>
            <a:ext cx="50508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好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快易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好记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花园宝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24000" y="1268280"/>
            <a:ext cx="503280" cy="36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步步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松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飞利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西门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24000" y="2708280"/>
            <a:ext cx="50508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姆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碧然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19640" y="2708280"/>
            <a:ext cx="64764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膳魔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虎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484360" y="2205000"/>
            <a:ext cx="574920" cy="35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倍轻松 锐柏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19640" y="2205000"/>
            <a:ext cx="647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韩尚 艾力斯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71640" y="1700280"/>
            <a:ext cx="115272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维     长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星      索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71640" y="1268280"/>
            <a:ext cx="115272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同方  飞利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海尔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76360" y="1844640"/>
            <a:ext cx="35712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樱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43280" y="5516640"/>
            <a:ext cx="1657440" cy="64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乔德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MINEI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馨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00720" y="5516640"/>
            <a:ext cx="129528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合花 富安娜 罗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475400">
            <a:off x="5713560" y="6013080"/>
            <a:ext cx="143496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佳丽斯  惠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7703000">
            <a:off x="6696000" y="5552640"/>
            <a:ext cx="100800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埃迪蒙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堂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8770400">
            <a:off x="7241040" y="4502520"/>
            <a:ext cx="135576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AL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维科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2623800">
            <a:off x="6816240" y="3269880"/>
            <a:ext cx="2109960" cy="525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REONE   PEARLLIFE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乾唐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16360" y="2637000"/>
            <a:ext cx="2303640" cy="57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iss per EG V&amp;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284720" y="2637000"/>
            <a:ext cx="43344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双立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2712000">
            <a:off x="3615480" y="952920"/>
            <a:ext cx="779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A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ON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&amp;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68360" y="620640"/>
            <a:ext cx="158292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方太 老板 万家乐 史密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8960600">
            <a:off x="-162000" y="1450440"/>
            <a:ext cx="273384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松下 三菱 大金 日立 海尔格力 美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2733000">
            <a:off x="514080" y="2500200"/>
            <a:ext cx="772920" cy="64620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毕加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文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4360" y="3645000"/>
            <a:ext cx="718920" cy="50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海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58920" y="4149720"/>
            <a:ext cx="719280" cy="50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凯萨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2711400">
            <a:off x="1729440" y="4831200"/>
            <a:ext cx="1434960" cy="50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博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西门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764800">
            <a:off x="1027800" y="3051720"/>
            <a:ext cx="43164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永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保险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84720" y="1413000"/>
            <a:ext cx="433440" cy="93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海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HA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284720" y="2349360"/>
            <a:ext cx="433440" cy="35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开票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627280" y="2708280"/>
            <a:ext cx="50472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福玛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84720" y="3357720"/>
            <a:ext cx="1008360" cy="50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84720" y="4005360"/>
            <a:ext cx="100836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UCHINO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思佳 晋帛时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84720" y="4653000"/>
            <a:ext cx="10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黛富妮    舒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士尼   富美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360320" y="407664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12680" y="407664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93236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88000" y="3573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观光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39640" y="62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六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11280" y="2637000"/>
            <a:ext cx="2881080" cy="2304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欢悦天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电玩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0800000">
            <a:off x="611280" y="835920"/>
            <a:ext cx="4465440" cy="1871640"/>
          </a:xfrm>
          <a:custGeom>
            <a:avLst/>
            <a:gdLst>
              <a:gd name="textAreaLeft" fmla="*/ 981720 w 4465440"/>
              <a:gd name="textAreaRight" fmla="*/ 3483720 w 4465440"/>
              <a:gd name="textAreaTop" fmla="*/ 411480 h 1871640"/>
              <a:gd name="textAreaBottom" fmla="*/ 146016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51280" y="3933720"/>
            <a:ext cx="287280" cy="287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64000" y="3645000"/>
            <a:ext cx="574560" cy="288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冰工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水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6165720"/>
            <a:ext cx="129528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泰国圣荷国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156360" y="4005360"/>
            <a:ext cx="360360" cy="71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16720" y="4005360"/>
            <a:ext cx="576360" cy="71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珍混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水果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8118000">
            <a:off x="7535160" y="4501800"/>
            <a:ext cx="1073160" cy="10652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儿童乐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3557600">
            <a:off x="7304400" y="3216240"/>
            <a:ext cx="1073160" cy="106524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摸错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涮肚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51280" y="4221000"/>
            <a:ext cx="289080" cy="4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收银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360320" y="465300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439600" y="465300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5928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788000" y="4149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观光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67280" y="2924280"/>
            <a:ext cx="57600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田记小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43280" y="3213000"/>
            <a:ext cx="316872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港粤小吃 水煮江湖 铁板盖浇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65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自选 砂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蒸菜 铁板过桥米线泡馍 牛肉面 巴犀烧烤 麻辣香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92360" y="3068640"/>
            <a:ext cx="57636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袁师傅夹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9640" y="62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七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3:17:04Z</dcterms:created>
  <dc:creator>微软用户</dc:creator>
  <dc:description/>
  <dc:language>en-US</dc:language>
  <cp:lastModifiedBy>oempc</cp:lastModifiedBy>
  <dcterms:modified xsi:type="dcterms:W3CDTF">2013-03-19T08:32:06Z</dcterms:modified>
  <cp:revision>46</cp:revision>
  <dc:subject/>
  <dc:title>幻灯片 1</dc:title>
</cp:coreProperties>
</file>