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CB8-1F08-4D4D-878D-F266C3D8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943-7761-43BF-B2EB-FA507A1C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54B-9D82-4BE8-94FD-A02F03EC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D3F0-D0DB-4DFC-9469-FDEE0E22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DA2-1B8A-4A95-B85D-33022ACE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9D7-0DBA-48C0-8FB5-649AC4D3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331-8EA3-4AA5-BD78-0CF8B88D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61E-8B7D-4CB3-A6CE-E5CB5060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A73-D116-404F-B72B-F2D09AB6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1B0-3060-46D1-90D9-3444BFF8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EF2-0EFE-4A5D-8DE2-ED720F9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E94-E63A-4349-B86A-CC52855A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06F1-D75C-4906-8667-66DABE275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292720" y="1411200"/>
            <a:ext cx="28728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丸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651640" y="1339920"/>
            <a:ext cx="3585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丽莎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5651640" y="1987560"/>
            <a:ext cx="3585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P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6084720" y="1339920"/>
            <a:ext cx="35892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6084720" y="1987560"/>
            <a:ext cx="35892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716360" y="2708280"/>
            <a:ext cx="144000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a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蜜丝佛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宝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516720" y="1339920"/>
            <a:ext cx="36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6516720" y="1987560"/>
            <a:ext cx="36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948360" y="1627200"/>
            <a:ext cx="28764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372360" y="2779560"/>
            <a:ext cx="503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梦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嘉媚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716360" y="2924280"/>
            <a:ext cx="28728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维尼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1332000" y="4941720"/>
            <a:ext cx="64764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森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2195640" y="4940280"/>
            <a:ext cx="57600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洋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袋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4716360" y="3500280"/>
            <a:ext cx="576360" cy="28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其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716360" y="3932280"/>
            <a:ext cx="432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丽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4716360" y="4435560"/>
            <a:ext cx="432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策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5292720" y="3500280"/>
            <a:ext cx="863640" cy="28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5292720" y="3932280"/>
            <a:ext cx="57636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5292720" y="4435560"/>
            <a:ext cx="57456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日顺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6012000" y="4435560"/>
            <a:ext cx="43164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思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6"/>
          <p:cNvSpPr/>
          <p:nvPr/>
        </p:nvSpPr>
        <p:spPr>
          <a:xfrm>
            <a:off x="7236000" y="4292640"/>
            <a:ext cx="504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芙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6588000" y="4363920"/>
            <a:ext cx="432000" cy="505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BER.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玛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7380360" y="3211560"/>
            <a:ext cx="8636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8244000" y="3211560"/>
            <a:ext cx="72072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加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1"/>
          <p:cNvSpPr/>
          <p:nvPr/>
        </p:nvSpPr>
        <p:spPr>
          <a:xfrm>
            <a:off x="7885080" y="3787920"/>
            <a:ext cx="57636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森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7236000" y="3787920"/>
            <a:ext cx="576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7380360" y="2852640"/>
            <a:ext cx="720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6"/>
          <p:cNvSpPr/>
          <p:nvPr/>
        </p:nvSpPr>
        <p:spPr>
          <a:xfrm>
            <a:off x="6588000" y="3716280"/>
            <a:ext cx="43200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SALO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7"/>
          <p:cNvSpPr/>
          <p:nvPr/>
        </p:nvSpPr>
        <p:spPr>
          <a:xfrm>
            <a:off x="6227640" y="3284640"/>
            <a:ext cx="93672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P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8"/>
          <p:cNvSpPr/>
          <p:nvPr/>
        </p:nvSpPr>
        <p:spPr>
          <a:xfrm>
            <a:off x="468360" y="5587920"/>
            <a:ext cx="676764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BL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星期六         康莉         莱尔斯丹          接吻猫            嘉宝          安玛莉         千百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9"/>
          <p:cNvSpPr/>
          <p:nvPr/>
        </p:nvSpPr>
        <p:spPr>
          <a:xfrm>
            <a:off x="8532720" y="3645000"/>
            <a:ext cx="432000" cy="1800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芙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0"/>
          <p:cNvSpPr/>
          <p:nvPr/>
        </p:nvSpPr>
        <p:spPr>
          <a:xfrm>
            <a:off x="8101080" y="2852640"/>
            <a:ext cx="503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佰草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1"/>
          <p:cNvSpPr/>
          <p:nvPr/>
        </p:nvSpPr>
        <p:spPr>
          <a:xfrm>
            <a:off x="8317080" y="2492280"/>
            <a:ext cx="360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泊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丽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2"/>
          <p:cNvSpPr/>
          <p:nvPr/>
        </p:nvSpPr>
        <p:spPr>
          <a:xfrm>
            <a:off x="8317080" y="1339920"/>
            <a:ext cx="358560" cy="100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8172360" y="476280"/>
            <a:ext cx="501840" cy="86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同仁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4"/>
          <p:cNvSpPr/>
          <p:nvPr/>
        </p:nvSpPr>
        <p:spPr>
          <a:xfrm>
            <a:off x="6443640" y="476280"/>
            <a:ext cx="3589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雪肌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5"/>
          <p:cNvSpPr/>
          <p:nvPr/>
        </p:nvSpPr>
        <p:spPr>
          <a:xfrm>
            <a:off x="6804000" y="476280"/>
            <a:ext cx="136836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E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爵 东瑞翡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6"/>
          <p:cNvSpPr/>
          <p:nvPr/>
        </p:nvSpPr>
        <p:spPr>
          <a:xfrm>
            <a:off x="5364000" y="476280"/>
            <a:ext cx="3589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7"/>
          <p:cNvSpPr/>
          <p:nvPr/>
        </p:nvSpPr>
        <p:spPr>
          <a:xfrm>
            <a:off x="4284720" y="476280"/>
            <a:ext cx="107928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大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8"/>
          <p:cNvSpPr/>
          <p:nvPr/>
        </p:nvSpPr>
        <p:spPr>
          <a:xfrm>
            <a:off x="3564000" y="476280"/>
            <a:ext cx="72072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9"/>
          <p:cNvSpPr/>
          <p:nvPr/>
        </p:nvSpPr>
        <p:spPr>
          <a:xfrm>
            <a:off x="3564000" y="979560"/>
            <a:ext cx="720720" cy="136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K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0"/>
          <p:cNvSpPr/>
          <p:nvPr/>
        </p:nvSpPr>
        <p:spPr>
          <a:xfrm>
            <a:off x="468360" y="4076640"/>
            <a:ext cx="647640" cy="1511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思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他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2"/>
          <p:cNvSpPr/>
          <p:nvPr/>
        </p:nvSpPr>
        <p:spPr>
          <a:xfrm>
            <a:off x="3780000" y="2635200"/>
            <a:ext cx="64908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丽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蒂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3"/>
          <p:cNvSpPr/>
          <p:nvPr/>
        </p:nvSpPr>
        <p:spPr>
          <a:xfrm>
            <a:off x="3851280" y="3284640"/>
            <a:ext cx="64944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丸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4"/>
          <p:cNvSpPr/>
          <p:nvPr/>
        </p:nvSpPr>
        <p:spPr>
          <a:xfrm>
            <a:off x="3851280" y="3571920"/>
            <a:ext cx="64944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薇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5"/>
          <p:cNvSpPr/>
          <p:nvPr/>
        </p:nvSpPr>
        <p:spPr>
          <a:xfrm>
            <a:off x="1116000" y="4076640"/>
            <a:ext cx="863640" cy="646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6"/>
          <p:cNvSpPr/>
          <p:nvPr/>
        </p:nvSpPr>
        <p:spPr>
          <a:xfrm>
            <a:off x="1979640" y="4076640"/>
            <a:ext cx="2521080" cy="646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西欧  东方   美度  天梭  梅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巍雅斯  爵尼  英纳格   豪利时   罗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7"/>
          <p:cNvSpPr/>
          <p:nvPr/>
        </p:nvSpPr>
        <p:spPr>
          <a:xfrm>
            <a:off x="3203640" y="227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8"/>
          <p:cNvSpPr/>
          <p:nvPr/>
        </p:nvSpPr>
        <p:spPr>
          <a:xfrm>
            <a:off x="-270360" y="5589720"/>
            <a:ext cx="729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9"/>
          <p:cNvSpPr/>
          <p:nvPr/>
        </p:nvSpPr>
        <p:spPr>
          <a:xfrm>
            <a:off x="6965640" y="5589720"/>
            <a:ext cx="729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4863600" y="126828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1"/>
          <p:cNvSpPr/>
          <p:nvPr/>
        </p:nvSpPr>
        <p:spPr>
          <a:xfrm>
            <a:off x="7097040" y="126828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2"/>
          <p:cNvSpPr/>
          <p:nvPr/>
        </p:nvSpPr>
        <p:spPr>
          <a:xfrm>
            <a:off x="4284720" y="50115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898560" y="4941720"/>
            <a:ext cx="28728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98560" y="5446800"/>
            <a:ext cx="28728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猫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经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332000" y="5086440"/>
            <a:ext cx="28728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690560" y="4941720"/>
            <a:ext cx="28764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690560" y="5446800"/>
            <a:ext cx="28764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2120760" y="5157720"/>
            <a:ext cx="64944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鹿王羊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2771640" y="5157720"/>
            <a:ext cx="79056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帕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562200" y="5157720"/>
            <a:ext cx="576360" cy="43344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吉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4138560" y="5157720"/>
            <a:ext cx="647640" cy="43344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万里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5075280" y="4941720"/>
            <a:ext cx="50328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嘉若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362560" y="5518080"/>
            <a:ext cx="43164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银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5578560" y="4941720"/>
            <a:ext cx="64908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玉红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5794200" y="5518080"/>
            <a:ext cx="43200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白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6443640" y="4941720"/>
            <a:ext cx="50328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瑞贝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6946920" y="4941720"/>
            <a:ext cx="43164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7378560" y="4941720"/>
            <a:ext cx="43200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芮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6443640" y="5302080"/>
            <a:ext cx="50328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璐帕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6946920" y="5302080"/>
            <a:ext cx="43164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无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无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7378560" y="5302080"/>
            <a:ext cx="43200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6802560" y="4365720"/>
            <a:ext cx="57780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6083280" y="4365720"/>
            <a:ext cx="7221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流行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5506920" y="436572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4859280" y="4365720"/>
            <a:ext cx="64944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誉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4859280" y="3718080"/>
            <a:ext cx="4320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时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咖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4859280" y="3214800"/>
            <a:ext cx="43200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莲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4859280" y="2854440"/>
            <a:ext cx="792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缘悠雅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5651640" y="2854440"/>
            <a:ext cx="79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鹿王羊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6443640" y="2854440"/>
            <a:ext cx="93492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聊黛部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7020000" y="3430440"/>
            <a:ext cx="361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琥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8170920" y="1414440"/>
            <a:ext cx="288720" cy="11509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5506920" y="1414440"/>
            <a:ext cx="287280" cy="1150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4210200" y="1414440"/>
            <a:ext cx="28872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银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7"/>
          <p:cNvSpPr/>
          <p:nvPr/>
        </p:nvSpPr>
        <p:spPr>
          <a:xfrm rot="1876800">
            <a:off x="4209840" y="2277720"/>
            <a:ext cx="574560" cy="290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汇美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6010200" y="1414440"/>
            <a:ext cx="792360" cy="1150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容子木  红袖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柏维娅  优希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6946920" y="1414440"/>
            <a:ext cx="431640" cy="1150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0"/>
          <p:cNvSpPr/>
          <p:nvPr/>
        </p:nvSpPr>
        <p:spPr>
          <a:xfrm>
            <a:off x="7667640" y="1414440"/>
            <a:ext cx="5032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ua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7667640" y="2206800"/>
            <a:ext cx="504720" cy="2872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姬龙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1762200" y="5878440"/>
            <a:ext cx="28098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德黎格尔       鄂尔多斯        帕兰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538200" y="5878440"/>
            <a:ext cx="122400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安莉芳 伊维斯 华歌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142920" y="4294080"/>
            <a:ext cx="538200" cy="158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诗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桑扶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682560" y="4294080"/>
            <a:ext cx="86364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黛安芬 嫒悠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1762200" y="4294080"/>
            <a:ext cx="57636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2338560" y="4294080"/>
            <a:ext cx="165564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雪绒  米梭  鹿王  珍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3994200" y="3862440"/>
            <a:ext cx="649080" cy="936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敦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3994200" y="2925720"/>
            <a:ext cx="649080" cy="936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3778200" y="1414440"/>
            <a:ext cx="28908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1"/>
          <p:cNvSpPr/>
          <p:nvPr/>
        </p:nvSpPr>
        <p:spPr>
          <a:xfrm>
            <a:off x="4427640" y="333360"/>
            <a:ext cx="122400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松造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5651640" y="333360"/>
            <a:ext cx="338436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蒂雅   雅莹   替莫  玛斯菲尔  卡利亚里  司普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8602560" y="1054080"/>
            <a:ext cx="432000" cy="180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粉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玛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4"/>
          <p:cNvSpPr/>
          <p:nvPr/>
        </p:nvSpPr>
        <p:spPr>
          <a:xfrm>
            <a:off x="7594560" y="2854440"/>
            <a:ext cx="14414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.Grass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好心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5"/>
          <p:cNvSpPr/>
          <p:nvPr/>
        </p:nvSpPr>
        <p:spPr>
          <a:xfrm>
            <a:off x="7594560" y="3357720"/>
            <a:ext cx="43200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舒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希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8028000" y="4365720"/>
            <a:ext cx="574560" cy="1512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靓美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7"/>
          <p:cNvSpPr/>
          <p:nvPr/>
        </p:nvSpPr>
        <p:spPr>
          <a:xfrm>
            <a:off x="4930920" y="5878440"/>
            <a:ext cx="367164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之藤    拉维尼亚    菲依尼尼      诺奇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.ga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8"/>
          <p:cNvSpPr/>
          <p:nvPr/>
        </p:nvSpPr>
        <p:spPr>
          <a:xfrm>
            <a:off x="3130560" y="2494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9"/>
          <p:cNvSpPr/>
          <p:nvPr/>
        </p:nvSpPr>
        <p:spPr>
          <a:xfrm>
            <a:off x="-270360" y="5662440"/>
            <a:ext cx="729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0"/>
          <p:cNvSpPr/>
          <p:nvPr/>
        </p:nvSpPr>
        <p:spPr>
          <a:xfrm>
            <a:off x="4157280" y="5662440"/>
            <a:ext cx="729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1"/>
          <p:cNvSpPr/>
          <p:nvPr/>
        </p:nvSpPr>
        <p:spPr>
          <a:xfrm>
            <a:off x="5006160" y="141444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2"/>
          <p:cNvSpPr/>
          <p:nvPr/>
        </p:nvSpPr>
        <p:spPr>
          <a:xfrm>
            <a:off x="7239960" y="141444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3"/>
          <p:cNvSpPr/>
          <p:nvPr/>
        </p:nvSpPr>
        <p:spPr>
          <a:xfrm>
            <a:off x="4427640" y="5230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4"/>
          <p:cNvSpPr/>
          <p:nvPr/>
        </p:nvSpPr>
        <p:spPr>
          <a:xfrm>
            <a:off x="5938920" y="3502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5"/>
          <p:cNvSpPr/>
          <p:nvPr/>
        </p:nvSpPr>
        <p:spPr>
          <a:xfrm>
            <a:off x="7236000" y="3862440"/>
            <a:ext cx="72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4498920" y="3862440"/>
            <a:ext cx="72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1763640" y="4292640"/>
            <a:ext cx="720720" cy="64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意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484360" y="4292640"/>
            <a:ext cx="647640" cy="64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羽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132000" y="4292640"/>
            <a:ext cx="649440" cy="64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.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780000" y="4292640"/>
            <a:ext cx="720720" cy="64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自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859280" y="4797360"/>
            <a:ext cx="50472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法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5364000" y="4797360"/>
            <a:ext cx="72072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蒙卡莉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6084720" y="4797360"/>
            <a:ext cx="505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碧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黛芙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6443640" y="4149720"/>
            <a:ext cx="72072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莲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5651640" y="4149720"/>
            <a:ext cx="792000" cy="360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4932360" y="3357720"/>
            <a:ext cx="360360" cy="645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4932360" y="2781360"/>
            <a:ext cx="36036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6804000" y="3141720"/>
            <a:ext cx="360360" cy="57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5508720" y="2781360"/>
            <a:ext cx="165564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ncy.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8028000" y="1341360"/>
            <a:ext cx="216000" cy="1224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7524720" y="2349360"/>
            <a:ext cx="503280" cy="2145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波波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7524720" y="1341360"/>
            <a:ext cx="50328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uf  FRA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6804000" y="1341360"/>
            <a:ext cx="360360" cy="1224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5796000" y="1341360"/>
            <a:ext cx="576360" cy="1224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r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潘尼潘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4"/>
          <p:cNvSpPr/>
          <p:nvPr/>
        </p:nvSpPr>
        <p:spPr>
          <a:xfrm>
            <a:off x="5292720" y="1341360"/>
            <a:ext cx="358920" cy="1224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雪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纳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5"/>
          <p:cNvSpPr/>
          <p:nvPr/>
        </p:nvSpPr>
        <p:spPr>
          <a:xfrm>
            <a:off x="4427640" y="1341360"/>
            <a:ext cx="50472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EEP 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6"/>
          <p:cNvSpPr/>
          <p:nvPr/>
        </p:nvSpPr>
        <p:spPr>
          <a:xfrm>
            <a:off x="4427640" y="2349360"/>
            <a:ext cx="50472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ER L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7"/>
          <p:cNvSpPr/>
          <p:nvPr/>
        </p:nvSpPr>
        <p:spPr>
          <a:xfrm>
            <a:off x="6372360" y="1341360"/>
            <a:ext cx="287280" cy="1224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6588000" y="4797360"/>
            <a:ext cx="57636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城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9"/>
          <p:cNvSpPr/>
          <p:nvPr/>
        </p:nvSpPr>
        <p:spPr>
          <a:xfrm>
            <a:off x="3492360" y="5734080"/>
            <a:ext cx="93672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羽绒服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0"/>
          <p:cNvSpPr/>
          <p:nvPr/>
        </p:nvSpPr>
        <p:spPr>
          <a:xfrm>
            <a:off x="1763640" y="5734080"/>
            <a:ext cx="17985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gogo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歌莉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1"/>
          <p:cNvSpPr/>
          <p:nvPr/>
        </p:nvSpPr>
        <p:spPr>
          <a:xfrm>
            <a:off x="179280" y="4292640"/>
            <a:ext cx="1513080" cy="2349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空厅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3"/>
          <p:cNvSpPr/>
          <p:nvPr/>
        </p:nvSpPr>
        <p:spPr>
          <a:xfrm>
            <a:off x="3780000" y="2852640"/>
            <a:ext cx="720720" cy="1440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装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3564000" y="1484280"/>
            <a:ext cx="360360" cy="57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3492360" y="404640"/>
            <a:ext cx="649440" cy="1081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风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4140360" y="404640"/>
            <a:ext cx="424800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W   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                  欧时力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8388360" y="404640"/>
            <a:ext cx="577800" cy="1440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8388360" y="1844640"/>
            <a:ext cx="577800" cy="100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9"/>
          <p:cNvSpPr/>
          <p:nvPr/>
        </p:nvSpPr>
        <p:spPr>
          <a:xfrm>
            <a:off x="7740720" y="2852640"/>
            <a:ext cx="576360" cy="194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0"/>
          <p:cNvSpPr/>
          <p:nvPr/>
        </p:nvSpPr>
        <p:spPr>
          <a:xfrm>
            <a:off x="8244000" y="4797360"/>
            <a:ext cx="64908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紫淑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8244000" y="5229360"/>
            <a:ext cx="64908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桑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2"/>
          <p:cNvSpPr/>
          <p:nvPr/>
        </p:nvSpPr>
        <p:spPr>
          <a:xfrm>
            <a:off x="7524720" y="5734080"/>
            <a:ext cx="13683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d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3"/>
          <p:cNvSpPr/>
          <p:nvPr/>
        </p:nvSpPr>
        <p:spPr>
          <a:xfrm>
            <a:off x="4788000" y="5734080"/>
            <a:ext cx="23763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4"/>
          <p:cNvSpPr/>
          <p:nvPr/>
        </p:nvSpPr>
        <p:spPr>
          <a:xfrm>
            <a:off x="2987640" y="2349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5"/>
          <p:cNvSpPr/>
          <p:nvPr/>
        </p:nvSpPr>
        <p:spPr>
          <a:xfrm>
            <a:off x="4086000" y="5589720"/>
            <a:ext cx="729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6822720" y="5589720"/>
            <a:ext cx="729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4863600" y="134136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7097040" y="134136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9"/>
          <p:cNvSpPr/>
          <p:nvPr/>
        </p:nvSpPr>
        <p:spPr>
          <a:xfrm>
            <a:off x="4284720" y="522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0"/>
          <p:cNvSpPr/>
          <p:nvPr/>
        </p:nvSpPr>
        <p:spPr>
          <a:xfrm>
            <a:off x="5796000" y="342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1"/>
          <p:cNvSpPr/>
          <p:nvPr/>
        </p:nvSpPr>
        <p:spPr>
          <a:xfrm>
            <a:off x="7093080" y="378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台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4427640" y="378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台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3"/>
          <p:cNvSpPr/>
          <p:nvPr/>
        </p:nvSpPr>
        <p:spPr>
          <a:xfrm>
            <a:off x="1476360" y="981000"/>
            <a:ext cx="720720" cy="649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意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5"/>
          <p:cNvSpPr/>
          <p:nvPr/>
        </p:nvSpPr>
        <p:spPr>
          <a:xfrm>
            <a:off x="2700360" y="5013360"/>
            <a:ext cx="1440000" cy="433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露卡维卡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4859280" y="4869000"/>
            <a:ext cx="57636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马克华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9"/>
          <p:cNvSpPr/>
          <p:nvPr/>
        </p:nvSpPr>
        <p:spPr>
          <a:xfrm>
            <a:off x="6659640" y="1341360"/>
            <a:ext cx="5047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箭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1"/>
          <p:cNvSpPr/>
          <p:nvPr/>
        </p:nvSpPr>
        <p:spPr>
          <a:xfrm>
            <a:off x="5292720" y="4221000"/>
            <a:ext cx="50328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动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5"/>
          <p:cNvSpPr/>
          <p:nvPr/>
        </p:nvSpPr>
        <p:spPr>
          <a:xfrm>
            <a:off x="5651640" y="5013360"/>
            <a:ext cx="57600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外交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7093080" y="4869000"/>
            <a:ext cx="576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波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8"/>
          <p:cNvSpPr/>
          <p:nvPr/>
        </p:nvSpPr>
        <p:spPr>
          <a:xfrm>
            <a:off x="6516720" y="4869000"/>
            <a:ext cx="576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露卡维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9"/>
          <p:cNvSpPr/>
          <p:nvPr/>
        </p:nvSpPr>
        <p:spPr>
          <a:xfrm>
            <a:off x="6516720" y="5229360"/>
            <a:ext cx="576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苏格兰飞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3"/>
          <p:cNvSpPr/>
          <p:nvPr/>
        </p:nvSpPr>
        <p:spPr>
          <a:xfrm>
            <a:off x="6300720" y="4221000"/>
            <a:ext cx="50328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皇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4"/>
          <p:cNvSpPr/>
          <p:nvPr/>
        </p:nvSpPr>
        <p:spPr>
          <a:xfrm>
            <a:off x="4716360" y="4221000"/>
            <a:ext cx="57636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林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坚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5"/>
          <p:cNvSpPr/>
          <p:nvPr/>
        </p:nvSpPr>
        <p:spPr>
          <a:xfrm>
            <a:off x="4716360" y="3573360"/>
            <a:ext cx="36036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亭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6"/>
          <p:cNvSpPr/>
          <p:nvPr/>
        </p:nvSpPr>
        <p:spPr>
          <a:xfrm>
            <a:off x="4716360" y="2781360"/>
            <a:ext cx="36036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8"/>
          <p:cNvSpPr/>
          <p:nvPr/>
        </p:nvSpPr>
        <p:spPr>
          <a:xfrm>
            <a:off x="5076720" y="2781360"/>
            <a:ext cx="50328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慕先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9"/>
          <p:cNvSpPr/>
          <p:nvPr/>
        </p:nvSpPr>
        <p:spPr>
          <a:xfrm>
            <a:off x="5580000" y="2781360"/>
            <a:ext cx="93672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暇步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0"/>
          <p:cNvSpPr/>
          <p:nvPr/>
        </p:nvSpPr>
        <p:spPr>
          <a:xfrm>
            <a:off x="6516720" y="2781360"/>
            <a:ext cx="71928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巴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1"/>
          <p:cNvSpPr/>
          <p:nvPr/>
        </p:nvSpPr>
        <p:spPr>
          <a:xfrm>
            <a:off x="6877080" y="3213000"/>
            <a:ext cx="36036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希伯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2"/>
          <p:cNvSpPr/>
          <p:nvPr/>
        </p:nvSpPr>
        <p:spPr>
          <a:xfrm>
            <a:off x="7885080" y="1341360"/>
            <a:ext cx="28728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3"/>
          <p:cNvSpPr/>
          <p:nvPr/>
        </p:nvSpPr>
        <p:spPr>
          <a:xfrm>
            <a:off x="1547640" y="1413000"/>
            <a:ext cx="43200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威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5"/>
          <p:cNvSpPr/>
          <p:nvPr/>
        </p:nvSpPr>
        <p:spPr>
          <a:xfrm>
            <a:off x="5219640" y="1341360"/>
            <a:ext cx="647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九牧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6"/>
          <p:cNvSpPr/>
          <p:nvPr/>
        </p:nvSpPr>
        <p:spPr>
          <a:xfrm>
            <a:off x="5219640" y="1989000"/>
            <a:ext cx="6476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伦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7"/>
          <p:cNvSpPr/>
          <p:nvPr/>
        </p:nvSpPr>
        <p:spPr>
          <a:xfrm>
            <a:off x="4211640" y="1484280"/>
            <a:ext cx="21600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8"/>
          <p:cNvSpPr/>
          <p:nvPr/>
        </p:nvSpPr>
        <p:spPr>
          <a:xfrm>
            <a:off x="4427640" y="1341360"/>
            <a:ext cx="50328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威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9"/>
          <p:cNvSpPr/>
          <p:nvPr/>
        </p:nvSpPr>
        <p:spPr>
          <a:xfrm>
            <a:off x="4427640" y="2276640"/>
            <a:ext cx="5032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舒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0"/>
          <p:cNvSpPr/>
          <p:nvPr/>
        </p:nvSpPr>
        <p:spPr>
          <a:xfrm>
            <a:off x="7093080" y="5229360"/>
            <a:ext cx="576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1"/>
          <p:cNvSpPr/>
          <p:nvPr/>
        </p:nvSpPr>
        <p:spPr>
          <a:xfrm>
            <a:off x="6804000" y="4221000"/>
            <a:ext cx="43200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3"/>
          <p:cNvSpPr/>
          <p:nvPr/>
        </p:nvSpPr>
        <p:spPr>
          <a:xfrm>
            <a:off x="6877080" y="3718080"/>
            <a:ext cx="36036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丽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4"/>
          <p:cNvSpPr/>
          <p:nvPr/>
        </p:nvSpPr>
        <p:spPr>
          <a:xfrm>
            <a:off x="6659640" y="1989000"/>
            <a:ext cx="5047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虎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5"/>
          <p:cNvSpPr/>
          <p:nvPr/>
        </p:nvSpPr>
        <p:spPr>
          <a:xfrm>
            <a:off x="5867280" y="1341360"/>
            <a:ext cx="6480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尼禾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6"/>
          <p:cNvSpPr/>
          <p:nvPr/>
        </p:nvSpPr>
        <p:spPr>
          <a:xfrm>
            <a:off x="5867280" y="1989000"/>
            <a:ext cx="648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德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4"/>
          <p:cNvSpPr/>
          <p:nvPr/>
        </p:nvSpPr>
        <p:spPr>
          <a:xfrm>
            <a:off x="7451640" y="1341360"/>
            <a:ext cx="43344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尼诺费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2"/>
          <p:cNvSpPr/>
          <p:nvPr/>
        </p:nvSpPr>
        <p:spPr>
          <a:xfrm>
            <a:off x="5796000" y="4221000"/>
            <a:ext cx="50472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DE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7"/>
          <p:cNvSpPr/>
          <p:nvPr/>
        </p:nvSpPr>
        <p:spPr>
          <a:xfrm>
            <a:off x="3132000" y="5661000"/>
            <a:ext cx="1295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8"/>
          <p:cNvSpPr/>
          <p:nvPr/>
        </p:nvSpPr>
        <p:spPr>
          <a:xfrm>
            <a:off x="539640" y="4221000"/>
            <a:ext cx="2087640" cy="20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男装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9"/>
          <p:cNvSpPr/>
          <p:nvPr/>
        </p:nvSpPr>
        <p:spPr>
          <a:xfrm>
            <a:off x="2556000" y="4221000"/>
            <a:ext cx="1152360" cy="505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露卡维卡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0"/>
          <p:cNvSpPr/>
          <p:nvPr/>
        </p:nvSpPr>
        <p:spPr>
          <a:xfrm>
            <a:off x="3708360" y="2998800"/>
            <a:ext cx="790560" cy="172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克琼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91"/>
          <p:cNvSpPr/>
          <p:nvPr/>
        </p:nvSpPr>
        <p:spPr>
          <a:xfrm>
            <a:off x="3492360" y="1052640"/>
            <a:ext cx="50328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雷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2"/>
          <p:cNvSpPr/>
          <p:nvPr/>
        </p:nvSpPr>
        <p:spPr>
          <a:xfrm>
            <a:off x="3492360" y="404640"/>
            <a:ext cx="48247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多奥 古柏 皮尔丹顿 沙驰 歌德克依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s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绅威  金利来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3"/>
          <p:cNvSpPr/>
          <p:nvPr/>
        </p:nvSpPr>
        <p:spPr>
          <a:xfrm>
            <a:off x="8317080" y="404640"/>
            <a:ext cx="576000" cy="1513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4"/>
          <p:cNvSpPr/>
          <p:nvPr/>
        </p:nvSpPr>
        <p:spPr>
          <a:xfrm>
            <a:off x="8317080" y="1917720"/>
            <a:ext cx="57600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蓝河衬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5"/>
          <p:cNvSpPr/>
          <p:nvPr/>
        </p:nvSpPr>
        <p:spPr>
          <a:xfrm>
            <a:off x="7451640" y="2781360"/>
            <a:ext cx="57636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6"/>
          <p:cNvSpPr/>
          <p:nvPr/>
        </p:nvSpPr>
        <p:spPr>
          <a:xfrm>
            <a:off x="7812000" y="3789360"/>
            <a:ext cx="647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7"/>
          <p:cNvSpPr/>
          <p:nvPr/>
        </p:nvSpPr>
        <p:spPr>
          <a:xfrm>
            <a:off x="7812000" y="4149720"/>
            <a:ext cx="647640" cy="21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埃斯普瑞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丽汉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狼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坚持我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8"/>
          <p:cNvSpPr/>
          <p:nvPr/>
        </p:nvSpPr>
        <p:spPr>
          <a:xfrm>
            <a:off x="4788000" y="5661000"/>
            <a:ext cx="2374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派路普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9"/>
          <p:cNvSpPr/>
          <p:nvPr/>
        </p:nvSpPr>
        <p:spPr>
          <a:xfrm>
            <a:off x="2987640" y="2349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0"/>
          <p:cNvSpPr/>
          <p:nvPr/>
        </p:nvSpPr>
        <p:spPr>
          <a:xfrm>
            <a:off x="-270360" y="5373720"/>
            <a:ext cx="729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1"/>
          <p:cNvSpPr/>
          <p:nvPr/>
        </p:nvSpPr>
        <p:spPr>
          <a:xfrm>
            <a:off x="4086000" y="5373720"/>
            <a:ext cx="729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2"/>
          <p:cNvSpPr/>
          <p:nvPr/>
        </p:nvSpPr>
        <p:spPr>
          <a:xfrm>
            <a:off x="8046720" y="2492280"/>
            <a:ext cx="729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3"/>
          <p:cNvSpPr/>
          <p:nvPr/>
        </p:nvSpPr>
        <p:spPr>
          <a:xfrm>
            <a:off x="6965640" y="5589720"/>
            <a:ext cx="729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4"/>
          <p:cNvSpPr/>
          <p:nvPr/>
        </p:nvSpPr>
        <p:spPr>
          <a:xfrm>
            <a:off x="4863600" y="134136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5"/>
          <p:cNvSpPr/>
          <p:nvPr/>
        </p:nvSpPr>
        <p:spPr>
          <a:xfrm>
            <a:off x="7097040" y="134136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6"/>
          <p:cNvSpPr/>
          <p:nvPr/>
        </p:nvSpPr>
        <p:spPr>
          <a:xfrm>
            <a:off x="4356000" y="522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7"/>
          <p:cNvSpPr/>
          <p:nvPr/>
        </p:nvSpPr>
        <p:spPr>
          <a:xfrm>
            <a:off x="5796000" y="342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8"/>
          <p:cNvSpPr/>
          <p:nvPr/>
        </p:nvSpPr>
        <p:spPr>
          <a:xfrm>
            <a:off x="7093080" y="378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台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9"/>
          <p:cNvSpPr/>
          <p:nvPr/>
        </p:nvSpPr>
        <p:spPr>
          <a:xfrm>
            <a:off x="4140360" y="3789360"/>
            <a:ext cx="72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0"/>
          <p:cNvSpPr/>
          <p:nvPr/>
        </p:nvSpPr>
        <p:spPr>
          <a:xfrm>
            <a:off x="7451640" y="2276640"/>
            <a:ext cx="43200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威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692360" y="5013360"/>
            <a:ext cx="792000" cy="433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恒源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4859280" y="4797360"/>
            <a:ext cx="57636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虎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2484360" y="5013360"/>
            <a:ext cx="933480" cy="433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鄂尔多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3419640" y="5013360"/>
            <a:ext cx="790560" cy="433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梦洁家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6659640" y="1270080"/>
            <a:ext cx="50472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6156360" y="1270080"/>
            <a:ext cx="36036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极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364000" y="4149720"/>
            <a:ext cx="64800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4859280" y="5302080"/>
            <a:ext cx="57636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5435640" y="4797360"/>
            <a:ext cx="28872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6156360" y="4797360"/>
            <a:ext cx="28872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5796000" y="4797360"/>
            <a:ext cx="360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5796000" y="5157720"/>
            <a:ext cx="36036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博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6877080" y="4797360"/>
            <a:ext cx="28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6516720" y="4797360"/>
            <a:ext cx="360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6516720" y="5157720"/>
            <a:ext cx="36036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乐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7236000" y="4797360"/>
            <a:ext cx="28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2"/>
          <p:cNvSpPr/>
          <p:nvPr/>
        </p:nvSpPr>
        <p:spPr>
          <a:xfrm>
            <a:off x="7596360" y="4797360"/>
            <a:ext cx="28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6012000" y="4149720"/>
            <a:ext cx="64764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辰贝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6659640" y="4149720"/>
            <a:ext cx="57636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5"/>
          <p:cNvSpPr/>
          <p:nvPr/>
        </p:nvSpPr>
        <p:spPr>
          <a:xfrm>
            <a:off x="4716360" y="4149720"/>
            <a:ext cx="64764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w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4716360" y="3718080"/>
            <a:ext cx="36036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尼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4716360" y="3286080"/>
            <a:ext cx="36036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索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8"/>
          <p:cNvSpPr/>
          <p:nvPr/>
        </p:nvSpPr>
        <p:spPr>
          <a:xfrm>
            <a:off x="4716360" y="2709720"/>
            <a:ext cx="36036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5076720" y="2709720"/>
            <a:ext cx="50328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倍轻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0"/>
          <p:cNvSpPr/>
          <p:nvPr/>
        </p:nvSpPr>
        <p:spPr>
          <a:xfrm>
            <a:off x="5580000" y="2709720"/>
            <a:ext cx="93672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1"/>
          <p:cNvSpPr/>
          <p:nvPr/>
        </p:nvSpPr>
        <p:spPr>
          <a:xfrm>
            <a:off x="6516720" y="2709720"/>
            <a:ext cx="64764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2"/>
          <p:cNvSpPr/>
          <p:nvPr/>
        </p:nvSpPr>
        <p:spPr>
          <a:xfrm>
            <a:off x="6804000" y="3357720"/>
            <a:ext cx="360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乐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3"/>
          <p:cNvSpPr/>
          <p:nvPr/>
        </p:nvSpPr>
        <p:spPr>
          <a:xfrm>
            <a:off x="7885080" y="1270080"/>
            <a:ext cx="287280" cy="1224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眼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7451640" y="2205000"/>
            <a:ext cx="43200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浪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7451640" y="1270080"/>
            <a:ext cx="433440" cy="28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6"/>
          <p:cNvSpPr/>
          <p:nvPr/>
        </p:nvSpPr>
        <p:spPr>
          <a:xfrm>
            <a:off x="5724360" y="1270080"/>
            <a:ext cx="4302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够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7"/>
          <p:cNvSpPr/>
          <p:nvPr/>
        </p:nvSpPr>
        <p:spPr>
          <a:xfrm>
            <a:off x="5724360" y="1846440"/>
            <a:ext cx="4302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慕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塔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8"/>
          <p:cNvSpPr/>
          <p:nvPr/>
        </p:nvSpPr>
        <p:spPr>
          <a:xfrm>
            <a:off x="5219640" y="1270080"/>
            <a:ext cx="36036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4427640" y="1270080"/>
            <a:ext cx="5032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富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4427640" y="2205000"/>
            <a:ext cx="5032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康美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1403280" y="5662440"/>
            <a:ext cx="3022560" cy="719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惠谊家纺                  鸿润家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611280" y="4149720"/>
            <a:ext cx="790560" cy="22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馨亭家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3"/>
          <p:cNvSpPr/>
          <p:nvPr/>
        </p:nvSpPr>
        <p:spPr>
          <a:xfrm>
            <a:off x="1403280" y="4149720"/>
            <a:ext cx="1873440" cy="64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富安娜家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4"/>
          <p:cNvSpPr/>
          <p:nvPr/>
        </p:nvSpPr>
        <p:spPr>
          <a:xfrm>
            <a:off x="2987640" y="3646440"/>
            <a:ext cx="115272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团购中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客服中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5"/>
          <p:cNvSpPr/>
          <p:nvPr/>
        </p:nvSpPr>
        <p:spPr>
          <a:xfrm>
            <a:off x="3564000" y="2854440"/>
            <a:ext cx="576360" cy="79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恒源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6"/>
          <p:cNvSpPr/>
          <p:nvPr/>
        </p:nvSpPr>
        <p:spPr>
          <a:xfrm>
            <a:off x="3492360" y="909720"/>
            <a:ext cx="4302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Q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利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7"/>
          <p:cNvSpPr/>
          <p:nvPr/>
        </p:nvSpPr>
        <p:spPr>
          <a:xfrm>
            <a:off x="3492360" y="333360"/>
            <a:ext cx="5256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李宁                阿迪达斯              美津浓                匡威               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8"/>
          <p:cNvSpPr/>
          <p:nvPr/>
        </p:nvSpPr>
        <p:spPr>
          <a:xfrm>
            <a:off x="8317080" y="909720"/>
            <a:ext cx="4302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9"/>
          <p:cNvSpPr/>
          <p:nvPr/>
        </p:nvSpPr>
        <p:spPr>
          <a:xfrm>
            <a:off x="7812000" y="2781360"/>
            <a:ext cx="720720" cy="11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0"/>
          <p:cNvSpPr/>
          <p:nvPr/>
        </p:nvSpPr>
        <p:spPr>
          <a:xfrm>
            <a:off x="8317080" y="2205000"/>
            <a:ext cx="43164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1"/>
          <p:cNvSpPr/>
          <p:nvPr/>
        </p:nvSpPr>
        <p:spPr>
          <a:xfrm>
            <a:off x="8028000" y="3933720"/>
            <a:ext cx="57636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2"/>
          <p:cNvSpPr/>
          <p:nvPr/>
        </p:nvSpPr>
        <p:spPr>
          <a:xfrm>
            <a:off x="4788000" y="5734080"/>
            <a:ext cx="3240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柏比     丽婴房   史 努比      安奈尔     玛米玛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3"/>
          <p:cNvSpPr/>
          <p:nvPr/>
        </p:nvSpPr>
        <p:spPr>
          <a:xfrm>
            <a:off x="8028000" y="4870440"/>
            <a:ext cx="577800" cy="151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才宝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4"/>
          <p:cNvSpPr/>
          <p:nvPr/>
        </p:nvSpPr>
        <p:spPr>
          <a:xfrm>
            <a:off x="4863600" y="127008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5"/>
          <p:cNvSpPr/>
          <p:nvPr/>
        </p:nvSpPr>
        <p:spPr>
          <a:xfrm>
            <a:off x="7097040" y="127008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7"/>
          <p:cNvSpPr/>
          <p:nvPr/>
        </p:nvSpPr>
        <p:spPr>
          <a:xfrm>
            <a:off x="579600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3132000" y="2349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0"/>
          <p:cNvSpPr/>
          <p:nvPr/>
        </p:nvSpPr>
        <p:spPr>
          <a:xfrm>
            <a:off x="-117720" y="5302080"/>
            <a:ext cx="729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1"/>
          <p:cNvSpPr/>
          <p:nvPr/>
        </p:nvSpPr>
        <p:spPr>
          <a:xfrm>
            <a:off x="4086000" y="5302080"/>
            <a:ext cx="729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2"/>
          <p:cNvSpPr/>
          <p:nvPr/>
        </p:nvSpPr>
        <p:spPr>
          <a:xfrm>
            <a:off x="4284720" y="501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3"/>
          <p:cNvSpPr/>
          <p:nvPr/>
        </p:nvSpPr>
        <p:spPr>
          <a:xfrm>
            <a:off x="4140360" y="3718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台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4"/>
          <p:cNvSpPr/>
          <p:nvPr/>
        </p:nvSpPr>
        <p:spPr>
          <a:xfrm>
            <a:off x="7093080" y="3718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台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03:26:37Z</dcterms:created>
  <dc:creator>微软用户</dc:creator>
  <dc:description/>
  <dc:language>en-US</dc:language>
  <cp:lastModifiedBy>微软用户</cp:lastModifiedBy>
  <dcterms:modified xsi:type="dcterms:W3CDTF">2013-03-22T07:39:48Z</dcterms:modified>
  <cp:revision>39</cp:revision>
  <dc:subject/>
  <dc:title>幻灯片 1</dc:title>
</cp:coreProperties>
</file>